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A69-62F7-40B0-B2D5-3118A5D6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17A9-8057-414B-9FCE-B4E05CEF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BDA-22B9-4E19-9C49-F8FA4BC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92B-4A93-4BB1-98C8-51905E97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1F9-644D-4DC6-B3B0-F0E72E8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47E-A540-42DB-B6E7-C9EBBDE3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B16-2EBC-4BB7-9690-7027AAE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99B-66EF-49AD-A1F0-903E17E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239-9651-4581-8600-C1D97DD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8B9-42B2-4599-B22D-A6201D22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488-4737-4F95-AB93-9674BE1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2EF-11CE-48E4-A80D-E7CD54E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27B-884B-45DD-9DE0-2CCB59E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1BC-6EC8-4DBC-84BC-550D3C3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6231-DF94-40CC-98C6-5E97BEC7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Awadalla 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 Awadal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Awadal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568440" cy="82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6450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41Z</dcterms:modified>
  <cp:revision>102</cp:revision>
  <dc:subject/>
  <dc:title>Profile</dc:title>
</cp:coreProperties>
</file>